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5ED-915A-4062-A516-2E449DDF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8E7-D76C-4AE5-B951-8B5EBAF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515-1AC2-47F3-BE11-2F9D25E2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8D2-85A4-438A-A653-6ADEDE37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E3E-6287-4CC6-9AC1-DAF534B8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A403-F726-4920-AACA-054CD57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C956-C1AF-414C-ADAB-A6D7456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852-8927-4F41-9EF5-D207FC27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3F2-7A00-4A78-9AFD-062E3E4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809-5397-4638-ACBD-075FA43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BEE-2BE6-4147-8663-324E18C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700-5C05-43AF-A204-C8973D74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9404-B12B-4E15-B8FB-52DA39D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5950-D0B8-4BE3-9B17-B193686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422-804D-49DF-942F-48311EA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6449-D240-4C02-85EE-6E32073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D85-C30E-4E23-8918-BB59CBB9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D03-205E-4902-8A32-EA8BCB1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28A-161A-4141-9A0F-3D31474A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9EB-F3E8-4F07-AF52-27D2968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BFA-785E-4F33-B1E2-2BC7338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237-0D7E-4ED8-AEDD-D683CEF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ED3-AFCC-488D-A3C2-98D183D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874-EDCC-4FE8-A6C0-ACBAE69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A10E-E7F5-441B-9921-D20451EBA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EC3F-59A4-478E-84F7-536318423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ook Antiqua"/>
              </a:rPr>
              <a:t>Verbs Like Gustar</a:t>
            </a:r>
            <a:endParaRPr b="0" lang="en-US" sz="5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4 -  Para Empez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already know several verbs that always use indirect objec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90280"/>
            <a:ext cx="84582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can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love, to de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s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ple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or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import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es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of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verbs all use a similar construction:  indirect object pronoun + verb + su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l béisbo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ly: 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aseball is </a:t>
            </a:r>
            <a:r>
              <a:rPr b="1" i="1" lang="en-US" sz="4400" spc="-1" strike="noStrike">
                <a:solidFill>
                  <a:srgbClr val="330099"/>
                </a:solidFill>
                <a:latin typeface="Arial"/>
              </a:rPr>
              <a:t>pleasing to m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wo forms of these verbs that are most commonly used are the Ud./él/ella and Uds./ellos/ellas for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105520"/>
            <a:ext cx="449568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Te interesa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los depor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ly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sports </a:t>
            </a: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interesting to yo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at in the previous sentences, the subjects are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béisbo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depor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indirect object pronou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15:32:44Z</dcterms:created>
  <dc:creator>NIHS</dc:creator>
  <dc:description/>
  <dc:language>en-US</dc:language>
  <cp:lastModifiedBy>Local User</cp:lastModifiedBy>
  <dcterms:modified xsi:type="dcterms:W3CDTF">2009-08-17T20:28:23Z</dcterms:modified>
  <cp:revision>5</cp:revision>
  <dc:subject/>
  <dc:title>Verbs like gustar</dc:title>
</cp:coreProperties>
</file>